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j0075027.wav" ContentType="audio/x-wav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C45-090F-44F7-9A87-75CA5102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09F-B4AA-4673-9B45-00525F7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9C2-FE1F-4EEE-8E76-90273340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620-36BD-4913-985A-520704F1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0DA-CDEC-42E4-8022-74D4AB9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D1F-A519-4EA3-BD60-0E7624F3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92F-EAB7-4991-BD1F-C7FC11C0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3EB-6728-41BA-A2B1-FDB07589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590-AC0C-4C80-9E81-6560BA8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3C-3CED-43C8-833E-27098B2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AA4-4270-4ADC-8D83-ECEDAAA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F7F-9511-41CC-AB4E-BDB0E9E5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DD22-F033-4606-A03E-475381AA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wiss9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j0075027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80520" y="380880"/>
            <a:ext cx="334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uhaus Md BT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Swiss921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WINDOWS\DESKTOP\Cheryl's\water earths pipe.gif"/>
          <p:cNvPicPr/>
          <p:nvPr/>
        </p:nvPicPr>
        <p:blipFill>
          <a:blip r:embed="rId1"/>
          <a:stretch/>
        </p:blipFill>
        <p:spPr>
          <a:xfrm>
            <a:off x="380880" y="318960"/>
            <a:ext cx="84582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2"/>
          <p:cNvSpPr/>
          <p:nvPr/>
        </p:nvSpPr>
        <p:spPr>
          <a:xfrm>
            <a:off x="122400" y="4495680"/>
            <a:ext cx="338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921 BT"/>
              </a:rPr>
              <a:t>One atom of oxygen</a:t>
            </a: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600" y="2627280"/>
            <a:ext cx="38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921 BT"/>
              </a:rPr>
              <a:t>Two atoms of hydrogen</a:t>
            </a: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grpSp>
        <p:nvGrpSpPr>
          <p:cNvPr id="85" name="Group 25"/>
          <p:cNvGrpSpPr/>
          <p:nvPr/>
        </p:nvGrpSpPr>
        <p:grpSpPr>
          <a:xfrm>
            <a:off x="4191120" y="3352680"/>
            <a:ext cx="2971800" cy="3705840"/>
            <a:chOff x="4191120" y="3352680"/>
            <a:chExt cx="2971800" cy="3705840"/>
          </a:xfrm>
        </p:grpSpPr>
        <p:sp>
          <p:nvSpPr>
            <p:cNvPr id="86" name="Oval 6"/>
            <p:cNvSpPr/>
            <p:nvPr/>
          </p:nvSpPr>
          <p:spPr>
            <a:xfrm>
              <a:off x="4191120" y="3352680"/>
              <a:ext cx="2971800" cy="2819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Swiss921 BT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5181480" y="5867280"/>
              <a:ext cx="94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3505320" y="533520"/>
            <a:ext cx="4419360" cy="3047760"/>
            <a:chOff x="3505320" y="533520"/>
            <a:chExt cx="4419360" cy="3047760"/>
          </a:xfrm>
        </p:grpSpPr>
        <p:sp>
          <p:nvSpPr>
            <p:cNvPr id="89" name="Oval 9"/>
            <p:cNvSpPr/>
            <p:nvPr/>
          </p:nvSpPr>
          <p:spPr>
            <a:xfrm>
              <a:off x="5715000" y="1295280"/>
              <a:ext cx="2209680" cy="2286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wiss921 BT"/>
                </a:rPr>
                <a:t>H</a:t>
              </a:r>
              <a:endParaRPr b="0" lang="en-US" sz="5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0" name="Oval 14"/>
            <p:cNvSpPr/>
            <p:nvPr/>
          </p:nvSpPr>
          <p:spPr>
            <a:xfrm>
              <a:off x="3505320" y="1295280"/>
              <a:ext cx="2209680" cy="2286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wiss921 BT"/>
                </a:rPr>
                <a:t>H</a:t>
              </a:r>
              <a:endParaRPr b="0" lang="en-US" sz="5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1" name="Text Box 17"/>
            <p:cNvSpPr/>
            <p:nvPr/>
          </p:nvSpPr>
          <p:spPr>
            <a:xfrm>
              <a:off x="4271040" y="533520"/>
              <a:ext cx="4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6633360" y="533520"/>
              <a:ext cx="4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achen BT"/>
              </a:rPr>
              <a:t>Water Chemical Proper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DESKTOP\Cheryl's\water cycle circle.gif"/>
          <p:cNvPicPr/>
          <p:nvPr/>
        </p:nvPicPr>
        <p:blipFill>
          <a:blip r:embed="rId1"/>
          <a:stretch/>
        </p:blipFill>
        <p:spPr>
          <a:xfrm>
            <a:off x="914400" y="190440"/>
            <a:ext cx="7315200" cy="647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WINDOWS\DESKTOP\Cheryl's\Ocean beach.jpg"/>
          <p:cNvPicPr/>
          <p:nvPr/>
        </p:nvPicPr>
        <p:blipFill>
          <a:blip r:embed="rId2"/>
          <a:stretch/>
        </p:blipFill>
        <p:spPr>
          <a:xfrm>
            <a:off x="1523880" y="1600200"/>
            <a:ext cx="6248520" cy="4684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URWWoodTypD"/>
              </a:rPr>
              <a:t>Evapo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wiss921 BT"/>
              </a:rPr>
              <a:t>Condens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WINDOWS\DESKTOP\Cheryl's\ha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tlantic Inline"/>
              </a:rPr>
              <a:t>Precipi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DESKTOP\Cheryl's\transpiration picture.jpg"/>
          <p:cNvPicPr/>
          <p:nvPr/>
        </p:nvPicPr>
        <p:blipFill>
          <a:blip r:embed="rId1"/>
          <a:stretch/>
        </p:blipFill>
        <p:spPr>
          <a:xfrm>
            <a:off x="182520" y="50328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ineta BT"/>
              </a:rPr>
              <a:t>Tra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8" descr="C:\WINDOWS\DESKTOP\Cheryl's\sun.gif"/>
          <p:cNvPicPr/>
          <p:nvPr/>
        </p:nvPicPr>
        <p:blipFill>
          <a:blip r:embed="rId1"/>
          <a:stretch/>
        </p:blipFill>
        <p:spPr>
          <a:xfrm>
            <a:off x="2895480" y="1859040"/>
            <a:ext cx="563904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6"/>
          <p:cNvGrpSpPr/>
          <p:nvPr/>
        </p:nvGrpSpPr>
        <p:grpSpPr>
          <a:xfrm>
            <a:off x="6488640" y="3276720"/>
            <a:ext cx="1969560" cy="2043000"/>
            <a:chOff x="6488640" y="3276720"/>
            <a:chExt cx="1969560" cy="2043000"/>
          </a:xfrm>
        </p:grpSpPr>
        <p:sp>
          <p:nvSpPr>
            <p:cNvPr id="53" name="Text Box 13"/>
            <p:cNvSpPr/>
            <p:nvPr/>
          </p:nvSpPr>
          <p:spPr>
            <a:xfrm>
              <a:off x="6488640" y="3276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Evapor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>
              <a:off x="6629400" y="43434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>
              <a:off x="7315200" y="43434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>
              <a:off x="7924680" y="43434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6537240" y="373392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vapor rises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58" name="Group 35"/>
          <p:cNvGrpSpPr/>
          <p:nvPr/>
        </p:nvGrpSpPr>
        <p:grpSpPr>
          <a:xfrm>
            <a:off x="6239520" y="457200"/>
            <a:ext cx="2174040" cy="1781280"/>
            <a:chOff x="6239520" y="457200"/>
            <a:chExt cx="2174040" cy="1781280"/>
          </a:xfrm>
        </p:grpSpPr>
        <p:sp>
          <p:nvSpPr>
            <p:cNvPr id="59" name="Text Box 12"/>
            <p:cNvSpPr/>
            <p:nvPr/>
          </p:nvSpPr>
          <p:spPr>
            <a:xfrm>
              <a:off x="6239520" y="990720"/>
              <a:ext cx="21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Condens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6347160" y="1371600"/>
              <a:ext cx="195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Clouds form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1" name="AutoShape 23"/>
            <p:cNvSpPr/>
            <p:nvPr/>
          </p:nvSpPr>
          <p:spPr>
            <a:xfrm>
              <a:off x="6781680" y="457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2" name="AutoShape 24"/>
            <p:cNvSpPr/>
            <p:nvPr/>
          </p:nvSpPr>
          <p:spPr>
            <a:xfrm>
              <a:off x="6858000" y="17524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63" name="Group 40"/>
          <p:cNvGrpSpPr/>
          <p:nvPr/>
        </p:nvGrpSpPr>
        <p:grpSpPr>
          <a:xfrm>
            <a:off x="3537000" y="2895480"/>
            <a:ext cx="1998720" cy="2043360"/>
            <a:chOff x="3537000" y="2895480"/>
            <a:chExt cx="1998720" cy="2043360"/>
          </a:xfrm>
        </p:grpSpPr>
        <p:sp>
          <p:nvSpPr>
            <p:cNvPr id="64" name="Text Box 14"/>
            <p:cNvSpPr/>
            <p:nvPr/>
          </p:nvSpPr>
          <p:spPr>
            <a:xfrm>
              <a:off x="3537000" y="28954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Precipit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grpSp>
          <p:nvGrpSpPr>
            <p:cNvPr id="65" name="Group 37"/>
            <p:cNvGrpSpPr/>
            <p:nvPr/>
          </p:nvGrpSpPr>
          <p:grpSpPr>
            <a:xfrm>
              <a:off x="3749760" y="3276720"/>
              <a:ext cx="1557000" cy="1662120"/>
              <a:chOff x="3749760" y="3276720"/>
              <a:chExt cx="1557000" cy="1662120"/>
            </a:xfrm>
          </p:grpSpPr>
          <p:sp>
            <p:nvSpPr>
              <p:cNvPr id="66" name="Text Box 25"/>
              <p:cNvSpPr/>
              <p:nvPr/>
            </p:nvSpPr>
            <p:spPr>
              <a:xfrm>
                <a:off x="3749760" y="3276720"/>
                <a:ext cx="155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lbertus Extra Bold"/>
                  </a:rPr>
                  <a:t>The rain falls</a:t>
                </a:r>
                <a:endParaRPr b="0" lang="en-US" sz="18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  <p:sp>
            <p:nvSpPr>
              <p:cNvPr id="67" name="AutoShape 26"/>
              <p:cNvSpPr/>
              <p:nvPr/>
            </p:nvSpPr>
            <p:spPr>
              <a:xfrm>
                <a:off x="4038480" y="388620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  <p:sp>
            <p:nvSpPr>
              <p:cNvPr id="68" name="AutoShape 27"/>
              <p:cNvSpPr/>
              <p:nvPr/>
            </p:nvSpPr>
            <p:spPr>
              <a:xfrm>
                <a:off x="4724280" y="396252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</p:grpSp>
      </p:grpSp>
      <p:grpSp>
        <p:nvGrpSpPr>
          <p:cNvPr id="69" name="Group 39"/>
          <p:cNvGrpSpPr/>
          <p:nvPr/>
        </p:nvGrpSpPr>
        <p:grpSpPr>
          <a:xfrm>
            <a:off x="2438280" y="0"/>
            <a:ext cx="3200400" cy="2879640"/>
            <a:chOff x="2438280" y="0"/>
            <a:chExt cx="3200400" cy="2879640"/>
          </a:xfrm>
        </p:grpSpPr>
        <p:sp>
          <p:nvSpPr>
            <p:cNvPr id="70" name="AutoShape 18"/>
            <p:cNvSpPr/>
            <p:nvPr/>
          </p:nvSpPr>
          <p:spPr>
            <a:xfrm>
              <a:off x="2438280" y="304920"/>
              <a:ext cx="914400" cy="9144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pic>
          <p:nvPicPr>
            <p:cNvPr id="71" name="Picture 29" descr="C:\WINDOWS\DESKTOP\Cheryl's\cycle picture 2.jpg"/>
            <p:cNvPicPr/>
            <p:nvPr/>
          </p:nvPicPr>
          <p:blipFill>
            <a:blip r:embed="rId1"/>
            <a:srcRect l="36952" t="0" r="30476" b="44326"/>
            <a:stretch/>
          </p:blipFill>
          <p:spPr>
            <a:xfrm>
              <a:off x="3276720" y="0"/>
              <a:ext cx="2361960" cy="28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30" descr="C:\WINDOWS\DESKTOP\Cheryl's\cycle picture 2.jpg"/>
          <p:cNvPicPr/>
          <p:nvPr/>
        </p:nvPicPr>
        <p:blipFill>
          <a:blip r:embed="rId2"/>
          <a:srcRect l="0" t="39928" r="58125" b="8362"/>
          <a:stretch/>
        </p:blipFill>
        <p:spPr>
          <a:xfrm>
            <a:off x="304920" y="304812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C:\WINDOWS\DESKTOP\Cheryl's\cycle picture.jpg"/>
          <p:cNvPicPr/>
          <p:nvPr/>
        </p:nvPicPr>
        <p:blipFill>
          <a:blip r:embed="rId3"/>
          <a:srcRect l="0" t="88127" r="0" b="0"/>
          <a:stretch/>
        </p:blipFill>
        <p:spPr>
          <a:xfrm>
            <a:off x="2057400" y="5410080"/>
            <a:ext cx="7086600" cy="520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38"/>
          <p:cNvGrpSpPr/>
          <p:nvPr/>
        </p:nvGrpSpPr>
        <p:grpSpPr>
          <a:xfrm>
            <a:off x="-1440" y="1371600"/>
            <a:ext cx="3463560" cy="1890720"/>
            <a:chOff x="-1440" y="1371600"/>
            <a:chExt cx="3463560" cy="1890720"/>
          </a:xfrm>
        </p:grpSpPr>
        <p:sp>
          <p:nvSpPr>
            <p:cNvPr id="75" name="Text Box 11"/>
            <p:cNvSpPr/>
            <p:nvPr/>
          </p:nvSpPr>
          <p:spPr>
            <a:xfrm>
              <a:off x="832680" y="1828800"/>
              <a:ext cx="210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Transpir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-1440" y="1371600"/>
              <a:ext cx="34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movement through plants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7" name="AutoShape 32"/>
            <p:cNvSpPr/>
            <p:nvPr/>
          </p:nvSpPr>
          <p:spPr>
            <a:xfrm>
              <a:off x="1066680" y="22860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1752480" y="22860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pic>
        <p:nvPicPr>
          <p:cNvPr id="79" name="Picture 41" descr=""/>
          <p:cNvPicPr/>
          <p:nvPr/>
        </p:nvPicPr>
        <p:blipFill>
          <a:blip r:embed="rId4"/>
          <a:stretch/>
        </p:blipFill>
        <p:spPr>
          <a:xfrm>
            <a:off x="4648320" y="60958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50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57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ngo BT"/>
              </a:rPr>
              <a:t>Ground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WINDOWS\DESKTOP\Cheryl's\Ground Water.gif"/>
          <p:cNvPicPr/>
          <p:nvPr/>
        </p:nvPicPr>
        <p:blipFill>
          <a:blip r:embed="rId2"/>
          <a:stretch/>
        </p:blipFill>
        <p:spPr>
          <a:xfrm>
            <a:off x="1905120" y="1752480"/>
            <a:ext cx="53337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20:41:16Z</dcterms:created>
  <dc:creator>Inst</dc:creator>
  <dc:description/>
  <dc:language>en-US</dc:language>
  <cp:lastModifiedBy>Lyn Clarkson</cp:lastModifiedBy>
  <dcterms:modified xsi:type="dcterms:W3CDTF">2007-10-26T01:33:04Z</dcterms:modified>
  <cp:revision>5</cp:revision>
  <dc:subject/>
  <dc:title>PowerPoint Presentation</dc:title>
</cp:coreProperties>
</file>